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6A85-C378-4E09-ADC0-E722167B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724B-1D6F-4203-8C8B-E08CAABB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2EE1-4B7B-4A94-8F09-37096973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2F9F-2DF6-4A8F-BA19-F1DDC1BC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1F2C-9E24-4EDF-944A-A84F6298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72EE-77E5-4E99-AD4C-551C370E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191F-5069-4045-9B45-9C203067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FE76-574D-448D-889D-29086330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856B-9D9B-4AB9-BCFE-631E12BB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B9B6-C56F-4FB2-B059-07252C44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9540-680A-4FAF-A65D-18681F5A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6545-6AF1-4EF8-92C9-0F3F09FE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4E7B-EA36-4920-94BE-D2EC60CDE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pen Archives Metadata Harvesting Protocol Compliant Repository for the American Memory Online Collection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AI Open Meeting, Washington, 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nuary 23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ve Woodward, Library of Con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was it implemen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052720" y="1757520"/>
          <a:ext cx="6059520" cy="4467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2720" y="1757520"/>
                    <a:ext cx="605952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as the level of effo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si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ing the protocol requests and respo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ttle more difficul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ng and organizing 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halleng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(format crosswalk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ing data for trans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 we go from 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 to include more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er non-MARC col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ment with other metadata formats, i.e., LC’s MARC21 xml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to refine MARC mappings and character reference en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ne flow contr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s this important for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Online Collec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LC as data provide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rican Memory content could be made more accessible through new value-added services that utilize harvested metadata, e.g., search services or specially targeted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data harvesting would be enabled for other groups such as researchers and educ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s this important for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Online Collec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haps with LC as a service provi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ion of content into American Memory could be simplified and standard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aborative collection development would be less labor int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s this important for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Online Collec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ipation in the development and testing of OAI has provided valuable practical experience with wide applicability, i.e.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of MARC8 character encoding to UTF-8 w/ Unicode character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 -&gt; dc mapp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 -&gt; xml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ollections were us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American Memory (alpha test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 Collections:1500-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cu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p Colle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mericana and Cartographic Treasures of the Library of Congress. These images were created from maps and atlases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nce Instruction Manuals: ca. 1490-19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 American Ballroom Compan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s a collection of over two hundred social dance manuals at the Library of Con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ollections were us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haracterist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data stores used for AM web site and O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-level MARC descriptive reco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this da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data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ous MARC fields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ting character set challen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technical infrastruc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, OS and systems softw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M rs6000, AIX, Ap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softw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erl script for handling requests via C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AN stuff: cgi.pm, sgmls.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MARC parsing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grade of existing MARC8 character se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perl script to create index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was it implemen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e from the American Memory online application, but built on same data s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mple index of identifiers, status, and dates was bui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Identifiers becomes an “index only” ve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dynamic access to MARC records in flat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was it implemen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translation from M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 is a popular storage format at 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le for updating/adding metadata form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le for adjusting mapp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mption token &amp; “retry after” respo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sholds, time-to-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ied results in a variety of wa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ssein Suleman’s excellent repository explor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SV from w3c.org, some XML S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21:13:22Z</dcterms:created>
  <dc:creator>loc</dc:creator>
  <dc:description/>
  <dc:language>en-US</dc:language>
  <cp:lastModifiedBy>Administrator</cp:lastModifiedBy>
  <cp:lastPrinted>2001-01-22T22:58:51Z</cp:lastPrinted>
  <dcterms:modified xsi:type="dcterms:W3CDTF">2001-01-23T16:47:09Z</dcterms:modified>
  <cp:revision>30</cp:revision>
  <dc:subject/>
  <dc:title>Open Archives Initiative: Alpha test experiences with the American Memory online collections. </dc:title>
</cp:coreProperties>
</file>